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CBDE-FACD-43AC-AD9F-27B849C81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D91A-69AE-42F0-BCCB-CC6EEE4D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7A01-A93A-48BA-8EE2-87247C9A8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B1C3-E22A-42BE-A87B-6F1B09C3D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68DF-0A9A-4E68-B243-95D5E478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BC32-9195-4D6E-AB07-3D36DCD9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8518-7935-4C77-9126-E3FA5A72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6ADC-B7E6-42FC-9149-0A6DA7F9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E432-415D-48ED-BD1D-11C46D48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5981-D0F5-40EA-8F14-CB9126E4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F766-7C9F-4534-A93E-D19B8F0D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5AF6-9253-4B9A-B9E8-81E60046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5F14-22BD-44E0-8A2E-788C60474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animal.discovery.com/videos/weird-true-freaky-outback-rabbit-invasion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blog.nature.org/science/files/2013/10/invasive-species-sign.jpg"/>
          <p:cNvPicPr/>
          <p:nvPr/>
        </p:nvPicPr>
        <p:blipFill>
          <a:blip r:embed="rId1"/>
          <a:stretch/>
        </p:blipFill>
        <p:spPr>
          <a:xfrm>
            <a:off x="0" y="7920"/>
            <a:ext cx="9132840" cy="6850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1447920" y="3809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vasive Spe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560" y="5029200"/>
            <a:ext cx="43354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at are they and how are they   affecting Austra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Environment Inte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01320" y="914400"/>
            <a:ext cx="8504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cute!!!...r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alia never had rab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ught there to hunt in 188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 turned into hundreds of millions and possibly even billions by 19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http://www.topsir.com/d/2008-10/Cute-rabbit-1440-900-widescreen-32511.jpg"/>
          <p:cNvPicPr/>
          <p:nvPr/>
        </p:nvPicPr>
        <p:blipFill>
          <a:blip r:embed="rId1"/>
          <a:stretch/>
        </p:blipFill>
        <p:spPr>
          <a:xfrm>
            <a:off x="3886200" y="1600200"/>
            <a:ext cx="47242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b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bbits are an example of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vasive spec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means they are not native to a specific location and tend to sp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case of rabbi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 millions in damage each year in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natural predators to kill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helped to kill off dozens of species native to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farm4.static.flickr.com/3429/3195968478_d973c34136.jpg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bbit War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www.cartoonstock.com/newscartoons/cartoonists/cga/lowres/cgan286l.jpg"/>
          <p:cNvPicPr/>
          <p:nvPr/>
        </p:nvPicPr>
        <p:blipFill>
          <a:blip r:embed="rId1"/>
          <a:stretch/>
        </p:blipFill>
        <p:spPr>
          <a:xfrm>
            <a:off x="1981080" y="1279440"/>
            <a:ext cx="485316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ting them  or destroying warr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abbit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nicholnl.wcp.muohio.edu/DingosBreakfastClub/Australia/Upfield/RabbitProofFenceWA1927.jpg"/>
          <p:cNvPicPr/>
          <p:nvPr/>
        </p:nvPicPr>
        <p:blipFill>
          <a:blip r:embed="rId2"/>
          <a:stretch/>
        </p:blipFill>
        <p:spPr>
          <a:xfrm>
            <a:off x="2590920" y="1523880"/>
            <a:ext cx="46479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7:23:42Z</dcterms:created>
  <dc:creator>sewen</dc:creator>
  <dc:description/>
  <dc:language>en-US</dc:language>
  <cp:lastModifiedBy>Scott M. Ewen</cp:lastModifiedBy>
  <dcterms:modified xsi:type="dcterms:W3CDTF">2015-01-22T15:59:14Z</dcterms:modified>
  <cp:revision>6</cp:revision>
  <dc:subject/>
  <dc:title>Today’s Issues</dc:title>
</cp:coreProperties>
</file>