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C3F-30A4-40D0-8D1D-7C578703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593-F704-4FA2-8724-A47802C6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D5F-A389-4071-BA37-BEF2BBFE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7F6-A3BB-4600-B8EF-A9246477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B35-54A4-4C38-A612-50793C16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2B3-EC46-4B5C-8E4A-BBA7B868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DF9-638F-487D-8C6F-C4DB5993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7EC-E462-4837-B767-3D3DA523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7532-C57E-429E-879D-59906D6D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8DC-49D8-4949-8A06-8231D0E5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6C96-5763-40EF-A8F7-600D3160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850-6EE9-420B-93C0-F92A7638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B7D5-953C-4699-9BB3-7492F9A3D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nimal.discovery.com/videos/weird-true-freaky-outback-rabbit-invasion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blog.nature.org/science/files/2013/10/invasive-species-sign.jpg"/>
          <p:cNvPicPr/>
          <p:nvPr/>
        </p:nvPicPr>
        <p:blipFill>
          <a:blip r:embed="rId1"/>
          <a:stretch/>
        </p:blipFill>
        <p:spPr>
          <a:xfrm>
            <a:off x="0" y="7920"/>
            <a:ext cx="913284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447920" y="3809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vasive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60" y="5029200"/>
            <a:ext cx="4335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are they and how are they   affecting Austra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Environment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1320" y="914400"/>
            <a:ext cx="8504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cute!!!...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 never had rab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there to hunt in 188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turned into hundreds of millions and possibly even billions by 19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www.topsir.com/d/2008-10/Cute-rabbit-1440-900-widescreen-32511.jpg"/>
          <p:cNvPicPr/>
          <p:nvPr/>
        </p:nvPicPr>
        <p:blipFill>
          <a:blip r:embed="rId1"/>
          <a:stretch/>
        </p:blipFill>
        <p:spPr>
          <a:xfrm>
            <a:off x="3886200" y="1600200"/>
            <a:ext cx="4724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b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s are an example of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vasive spec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 they are not native to a specific location and tend to sp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ase of rabbi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millions in damage each year in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atural predators to kill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helped to kill off dozens of species native to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farm4.static.flickr.com/3429/3195968478_d973c34136.jpg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bbit War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www.cartoonstock.com/newscartoons/cartoonists/cga/lowres/cgan286l.jpg"/>
          <p:cNvPicPr/>
          <p:nvPr/>
        </p:nvPicPr>
        <p:blipFill>
          <a:blip r:embed="rId1"/>
          <a:stretch/>
        </p:blipFill>
        <p:spPr>
          <a:xfrm>
            <a:off x="1981080" y="1279440"/>
            <a:ext cx="48531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ting them  or destroying warr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abbit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nicholnl.wcp.muohio.edu/DingosBreakfastClub/Australia/Upfield/RabbitProofFenceWA1927.jpg"/>
          <p:cNvPicPr/>
          <p:nvPr/>
        </p:nvPicPr>
        <p:blipFill>
          <a:blip r:embed="rId2"/>
          <a:stretch/>
        </p:blipFill>
        <p:spPr>
          <a:xfrm>
            <a:off x="2590920" y="1523880"/>
            <a:ext cx="46479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7:23:42Z</dcterms:created>
  <dc:creator>sewen</dc:creator>
  <dc:description/>
  <dc:language>en-US</dc:language>
  <cp:lastModifiedBy>Scott M. Ewen</cp:lastModifiedBy>
  <dcterms:modified xsi:type="dcterms:W3CDTF">2015-01-22T15:59:14Z</dcterms:modified>
  <cp:revision>6</cp:revision>
  <dc:subject/>
  <dc:title>Today’s Issues</dc:title>
</cp:coreProperties>
</file>