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620-B7AD-490C-8C6A-C35B0AA8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CE4-6D7A-4522-BA02-2B9AA92C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FAF-29B3-466D-87CD-44E45838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E37-89DC-4913-B128-F4B2CE06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DFA-30E0-4D58-8E76-789EFF44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BF1-B1E4-44AC-8968-7C04B2A6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BED-029F-4B35-9C15-55A96010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14B-BA9B-4B2C-9A8D-87B46C21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4EB-A8F9-4F90-90BF-15635F3C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C46-D5A0-42C3-9509-53891C4C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C30-9A5B-4DDE-B1C3-F08E739C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8FF-E763-46A1-91CE-CB6C9AE4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4F78-8B87-4281-92A9-4D6B675FB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nimal.discovery.com/videos/weird-true-freaky-outback-rabbit-invasion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blog.nature.org/science/files/2013/10/invasive-species-sign.jpg"/>
          <p:cNvPicPr/>
          <p:nvPr/>
        </p:nvPicPr>
        <p:blipFill>
          <a:blip r:embed="rId1"/>
          <a:stretch/>
        </p:blipFill>
        <p:spPr>
          <a:xfrm>
            <a:off x="0" y="792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447920" y="3809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vasive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60" y="5029200"/>
            <a:ext cx="4335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are they and how are they   affecting Austr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1320" y="914400"/>
            <a:ext cx="850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cute!!!...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 never had 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there to hunt in 18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turned into hundreds of millions and possibly even billions by 1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topsir.com/d/2008-10/Cute-rabbit-1440-900-widescreen-32511.jpg"/>
          <p:cNvPicPr/>
          <p:nvPr/>
        </p:nvPicPr>
        <p:blipFill>
          <a:blip r:embed="rId1"/>
          <a:stretch/>
        </p:blipFill>
        <p:spPr>
          <a:xfrm>
            <a:off x="3886200" y="1600200"/>
            <a:ext cx="4724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b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s are an example of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vasive spe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 they are not native to a specific location and tend to sp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of rabbi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millions in damage each year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atural predators to kil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elped to kill off dozens of species native to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farm4.static.flickr.com/3429/3195968478_d973c34136.jpg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bbit War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cartoonstock.com/newscartoons/cartoonists/cga/lowres/cgan286l.jpg"/>
          <p:cNvPicPr/>
          <p:nvPr/>
        </p:nvPicPr>
        <p:blipFill>
          <a:blip r:embed="rId1"/>
          <a:stretch/>
        </p:blipFill>
        <p:spPr>
          <a:xfrm>
            <a:off x="1981080" y="1279440"/>
            <a:ext cx="4853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ing them  or destroying warr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bbi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nicholnl.wcp.muohio.edu/DingosBreakfastClub/Australia/Upfield/RabbitProofFenceWA1927.jpg"/>
          <p:cNvPicPr/>
          <p:nvPr/>
        </p:nvPicPr>
        <p:blipFill>
          <a:blip r:embed="rId2"/>
          <a:stretch/>
        </p:blipFill>
        <p:spPr>
          <a:xfrm>
            <a:off x="2590920" y="1523880"/>
            <a:ext cx="4647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7:23:42Z</dcterms:created>
  <dc:creator>sewen</dc:creator>
  <dc:description/>
  <dc:language>en-US</dc:language>
  <cp:lastModifiedBy>Scott M. Ewen</cp:lastModifiedBy>
  <dcterms:modified xsi:type="dcterms:W3CDTF">2015-01-22T15:59:14Z</dcterms:modified>
  <cp:revision>6</cp:revision>
  <dc:subject/>
  <dc:title>Today’s Issues</dc:title>
</cp:coreProperties>
</file>