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8D4-FC91-4907-B046-EC5C1D61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2E6-3FFF-49F5-9C8D-32EABF68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BF0-6FFA-4285-8273-ED1EFE77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E40-2746-457B-92FE-E0559BD0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244-76B0-4D12-A95E-EF2E96D7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8C1-3434-4FB7-A1DA-D3B81407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9D3-BD72-47D6-86E6-D5077BF7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9A3-3BD2-4A14-B9EF-B2B004E1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3C6-66DB-45E6-87E9-7D7A4945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50C-9F2E-41B6-8985-81F1216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598-0E40-40F1-B636-96152CD8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35F-DA0D-4F19-A2AB-F9399820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AE8B-C5DA-41E2-A532-73A13E99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nimal.discovery.com/videos/weird-true-freaky-outback-rabbit-invasio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blog.nature.org/science/files/2013/10/invasive-species-sign.jpg"/>
          <p:cNvPicPr/>
          <p:nvPr/>
        </p:nvPicPr>
        <p:blipFill>
          <a:blip r:embed="rId1"/>
          <a:stretch/>
        </p:blipFill>
        <p:spPr>
          <a:xfrm>
            <a:off x="0" y="79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44792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vasive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60" y="5029200"/>
            <a:ext cx="433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they and how are they   affecting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320" y="914400"/>
            <a:ext cx="850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ute!!!...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 never had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here to hunt in 18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turned into hundreds of millions and possibly even billions by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topsir.com/d/2008-10/Cute-rabbit-1440-900-widescreen-32511.jpg"/>
          <p:cNvPicPr/>
          <p:nvPr/>
        </p:nvPicPr>
        <p:blipFill>
          <a:blip r:embed="rId1"/>
          <a:stretch/>
        </p:blipFill>
        <p:spPr>
          <a:xfrm>
            <a:off x="3886200" y="1600200"/>
            <a:ext cx="4724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s are an example of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asive 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 they are not native to a specific location and tend to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of rabb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millions in damage each year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ural predators to kil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elped to kill off dozens of species native to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arm4.static.flickr.com/3429/3195968478_d973c34136.jpg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 War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cartoonstock.com/newscartoons/cartoonists/cga/lowres/cgan286l.jpg"/>
          <p:cNvPicPr/>
          <p:nvPr/>
        </p:nvPicPr>
        <p:blipFill>
          <a:blip r:embed="rId1"/>
          <a:stretch/>
        </p:blipFill>
        <p:spPr>
          <a:xfrm>
            <a:off x="1981080" y="1279440"/>
            <a:ext cx="4853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them  or destroying war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bbi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nicholnl.wcp.muohio.edu/DingosBreakfastClub/Australia/Upfield/RabbitProofFenceWA1927.jpg"/>
          <p:cNvPicPr/>
          <p:nvPr/>
        </p:nvPicPr>
        <p:blipFill>
          <a:blip r:embed="rId2"/>
          <a:stretch/>
        </p:blipFill>
        <p:spPr>
          <a:xfrm>
            <a:off x="2590920" y="1523880"/>
            <a:ext cx="464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23:42Z</dcterms:created>
  <dc:creator>sewen</dc:creator>
  <dc:description/>
  <dc:language>en-US</dc:language>
  <cp:lastModifiedBy>Scott M. Ewen</cp:lastModifiedBy>
  <dcterms:modified xsi:type="dcterms:W3CDTF">2015-01-22T15:59:14Z</dcterms:modified>
  <cp:revision>6</cp:revision>
  <dc:subject/>
  <dc:title>Today’s Issues</dc:title>
</cp:coreProperties>
</file>