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8E97-CB2B-4DC4-A1F6-4871D98D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E3E0-CFEC-4A89-B8E9-074FE090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4444-E8E1-4CBC-8D68-88F5C24C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6BD0-0796-4353-BA4B-1BFC1BC1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A3FF-2055-459F-BA46-D69970A0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2EA4-7F00-4151-B7F5-C628CA97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CED6-5FBD-42C8-B820-2F0E1BD5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A11A-FB95-47CB-865E-7F88664F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6158-3551-480B-972B-3750F5CE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39F7-9C41-443E-9F34-A333B2F8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E53-E6D2-480E-9829-BF967A40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5F84-D4F4-4B74-9050-AEF38D16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75DB-7CC5-44AC-AED2-F2F9BC091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nimal.discovery.com/videos/weird-true-freaky-outback-rabbit-invasion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blog.nature.org/science/files/2013/10/invasive-species-sign.jpg"/>
          <p:cNvPicPr/>
          <p:nvPr/>
        </p:nvPicPr>
        <p:blipFill>
          <a:blip r:embed="rId1"/>
          <a:stretch/>
        </p:blipFill>
        <p:spPr>
          <a:xfrm>
            <a:off x="0" y="7920"/>
            <a:ext cx="9132840" cy="6850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447920" y="3809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vasive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60" y="5029200"/>
            <a:ext cx="4335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are they and how are they   affecting Austra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Environment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1320" y="914400"/>
            <a:ext cx="8504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cute!!!...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 never had rab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ught there to hunt in 188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 turned into hundreds of millions and possibly even billions by 19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www.topsir.com/d/2008-10/Cute-rabbit-1440-900-widescreen-32511.jpg"/>
          <p:cNvPicPr/>
          <p:nvPr/>
        </p:nvPicPr>
        <p:blipFill>
          <a:blip r:embed="rId1"/>
          <a:stretch/>
        </p:blipFill>
        <p:spPr>
          <a:xfrm>
            <a:off x="3886200" y="1600200"/>
            <a:ext cx="47242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b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its are an example of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vasive spec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means they are not native to a specific location and tend to sp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ase of rabbi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millions in damage each year in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natural predators to kill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helped to kill off dozens of species native to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farm4.static.flickr.com/3429/3195968478_d973c34136.jpg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bbit War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www.cartoonstock.com/newscartoons/cartoonists/cga/lowres/cgan286l.jpg"/>
          <p:cNvPicPr/>
          <p:nvPr/>
        </p:nvPicPr>
        <p:blipFill>
          <a:blip r:embed="rId1"/>
          <a:stretch/>
        </p:blipFill>
        <p:spPr>
          <a:xfrm>
            <a:off x="1981080" y="1279440"/>
            <a:ext cx="485316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ting them  or destroying warr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abbit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nicholnl.wcp.muohio.edu/DingosBreakfastClub/Australia/Upfield/RabbitProofFenceWA1927.jpg"/>
          <p:cNvPicPr/>
          <p:nvPr/>
        </p:nvPicPr>
        <p:blipFill>
          <a:blip r:embed="rId2"/>
          <a:stretch/>
        </p:blipFill>
        <p:spPr>
          <a:xfrm>
            <a:off x="2590920" y="1523880"/>
            <a:ext cx="46479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7:23:42Z</dcterms:created>
  <dc:creator>sewen</dc:creator>
  <dc:description/>
  <dc:language>en-US</dc:language>
  <cp:lastModifiedBy>Scott M. Ewen</cp:lastModifiedBy>
  <dcterms:modified xsi:type="dcterms:W3CDTF">2015-01-22T15:59:14Z</dcterms:modified>
  <cp:revision>6</cp:revision>
  <dc:subject/>
  <dc:title>Today’s Issues</dc:title>
</cp:coreProperties>
</file>